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634A-30E4-410C-9F5A-728B9CA28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6CF7-375B-4AF5-9A2E-E757199BC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89F-689B-4658-AAE2-1E645C3D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2B2-9635-4B97-8863-2EFE1FCB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F29-92D9-4C8B-9EFC-ABC01F52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028-8CEE-45B7-91A7-7CEF7A36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DEF-2924-4B92-9FE4-625870EC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B77-E230-432A-95F8-EB198FBB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7F9-CFD4-4A97-AC11-401221A4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D78-5AC8-4D46-8493-57B3BE9D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631-B28D-4E40-95A4-D91F7857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4B0-542A-4B26-BA43-E7D7A830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AA6-7085-4CD2-9BD2-7E44B999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10C-6A5C-4C43-8602-BE5D8E8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FF85-8F6E-4D0A-9DED-5F97B9749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zuby.cz/cz/sluzby/protetika/snimatelne-nahrady/hybridni-nahrady/" TargetMode="External"/><Relationship Id="rId2" Type="http://schemas.openxmlformats.org/officeDocument/2006/relationships/hyperlink" Target="http://www.prozuby.cz/cz/sluzby/protetika/snimatelne-nahrady/hybridni-nahrady/" TargetMode="External"/><Relationship Id="rId3" Type="http://schemas.openxmlformats.org/officeDocument/2006/relationships/hyperlink" Target="http://www.prozuby.cz/cz/sluzby/protetika/snimatelne-nahrady/hybridni-nahrady/" TargetMode="External"/><Relationship Id="rId4" Type="http://schemas.openxmlformats.org/officeDocument/2006/relationships/hyperlink" Target="http://www.prozuby.cz/cz/sluzby/protetika/snimatelne-nahrady/hybridni-nahrady/" TargetMode="External"/><Relationship Id="rId5" Type="http://schemas.openxmlformats.org/officeDocument/2006/relationships/hyperlink" Target="http://www.prozuby.cz/cz/sluzby/protetika/snimatelne-nahrady/hybridni-nahrady/" TargetMode="External"/><Relationship Id="rId6" Type="http://schemas.openxmlformats.org/officeDocument/2006/relationships/hyperlink" Target="http://www.prozuby.cz/cz/sluzby/protetika/snimatelne-nahrady/hybridni-nahrady/" TargetMode="External"/><Relationship Id="rId7" Type="http://schemas.openxmlformats.org/officeDocument/2006/relationships/hyperlink" Target="http://www.prozuby.cz/cz/sluzby/protetika/snimatelne-nahrady/hybridni-nahrady/" TargetMode="External"/><Relationship Id="rId8" Type="http://schemas.openxmlformats.org/officeDocument/2006/relationships/hyperlink" Target="http://www.prozuby.cz/cz/sluzby/protetika/snimatelne-nahrady/hybridni-nahrady/" TargetMode="External"/><Relationship Id="rId9" Type="http://schemas.openxmlformats.org/officeDocument/2006/relationships/hyperlink" Target="http://www.prozuby.cz/cz/sluzby/protetika/snimatelne-nahrady/hybridni-nahrady/" TargetMode="External"/><Relationship Id="rId10" Type="http://schemas.openxmlformats.org/officeDocument/2006/relationships/hyperlink" Target="http://www.prozuby.cz/cz/sluzby/protetika/snimatelne-nahrady/hybridni-nahrady/" TargetMode="External"/><Relationship Id="rId11" Type="http://schemas.openxmlformats.org/officeDocument/2006/relationships/hyperlink" Target="http://www.prozuby.cz/cz/sluzby/protetika/snimatelne-nahrady/hybridni-nahrady/" TargetMode="External"/><Relationship Id="rId12" Type="http://schemas.openxmlformats.org/officeDocument/2006/relationships/hyperlink" Target="http://www.prozuby.cz/cz/sluzby/protetika/snimatelne-nahrady/hybridni-nahrady/" TargetMode="External"/><Relationship Id="rId13" Type="http://schemas.openxmlformats.org/officeDocument/2006/relationships/hyperlink" Target="http://www.prozuby.cz/cz/sluzby/protetika/snimatelne-nahrady/hybridni-nahrady/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213372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ázev školy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Číslo projektu: CZ.1.07/1.5.00/34.095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zdělávací materiá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ifikace snímatelných náh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ázev materiálu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Y_32_INOVACE_ZSP.4.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um tvorby: 1. 11.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yučovací předmět, ročník, obor: ZSP, 4. ročník, Asistent zubního tech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r. Martina N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ac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Vzdělávací materiál využívá ICT při výuce a tím inovuje výuku praktického vyučování, zároveň motivuje a aktivuje žáky. Seznamuje  se základní klasifikací snímatelných náhr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755640" y="277920"/>
            <a:ext cx="7489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360" y="1773000"/>
            <a:ext cx="7704000" cy="1942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46c0a"/>
                </a:solidFill>
                <a:latin typeface="Calibri"/>
              </a:rPr>
              <a:t>Klasifikace snímatelných náhra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Klasifikace podle rozsah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Částečné snímatelné náhr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kové náhr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1                                                                                   Obr.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Users\Chalupna\Desktop\Nová složka\100_0940.JPG"/>
          <p:cNvPicPr/>
          <p:nvPr/>
        </p:nvPicPr>
        <p:blipFill>
          <a:blip r:embed="rId1"/>
          <a:stretch/>
        </p:blipFill>
        <p:spPr>
          <a:xfrm>
            <a:off x="611280" y="3500280"/>
            <a:ext cx="3492360" cy="2627640"/>
          </a:xfrm>
          <a:prstGeom prst="rect">
            <a:avLst/>
          </a:prstGeom>
          <a:ln w="0">
            <a:noFill/>
          </a:ln>
        </p:spPr>
      </p:pic>
      <p:pic>
        <p:nvPicPr>
          <p:cNvPr id="55" name="Zástupný symbol pro obsah 3" descr="P1060089.JPG"/>
          <p:cNvPicPr/>
          <p:nvPr/>
        </p:nvPicPr>
        <p:blipFill>
          <a:blip r:embed="rId2"/>
          <a:stretch/>
        </p:blipFill>
        <p:spPr>
          <a:xfrm>
            <a:off x="4643280" y="3500280"/>
            <a:ext cx="3888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Podle způsobu přenosu žvýkacího tla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ntál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.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ntomukóz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kózně dentál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kóz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. 4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. 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252072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4" descr="DSC04830.JPG"/>
          <p:cNvPicPr/>
          <p:nvPr/>
        </p:nvPicPr>
        <p:blipFill>
          <a:blip r:embed="rId2"/>
          <a:stretch/>
        </p:blipFill>
        <p:spPr>
          <a:xfrm>
            <a:off x="5292720" y="4221000"/>
            <a:ext cx="2879640" cy="2075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476360" y="4292640"/>
            <a:ext cx="24494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Podle typu defektu chrup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341360"/>
            <a:ext cx="84470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nímatelný můs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edlová náh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krácený zubní oblouk              jednostran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oustran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z me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mezer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Desková náhrada – ojedinělé zuby nebo jejich skup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Celková náhrada – úplná ztráta zu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Přímá spojovací šipka 4"/>
          <p:cNvCxnSpPr/>
          <p:nvPr/>
        </p:nvCxnSpPr>
        <p:spPr>
          <a:xfrm>
            <a:off x="4140000" y="285228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Přímá spojovací šipka 7"/>
          <p:cNvCxnSpPr/>
          <p:nvPr/>
        </p:nvCxnSpPr>
        <p:spPr>
          <a:xfrm>
            <a:off x="4140360" y="2924280"/>
            <a:ext cx="1296000" cy="50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Přímá spojovací šipka 10"/>
          <p:cNvCxnSpPr/>
          <p:nvPr/>
        </p:nvCxnSpPr>
        <p:spPr>
          <a:xfrm>
            <a:off x="4066920" y="2923920"/>
            <a:ext cx="1369080" cy="10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Přímá spojovací šipka 13"/>
          <p:cNvCxnSpPr/>
          <p:nvPr/>
        </p:nvCxnSpPr>
        <p:spPr>
          <a:xfrm>
            <a:off x="3995280" y="2924280"/>
            <a:ext cx="1513800" cy="1729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Podle typu náhr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keletová náhrada I. a II. třída podle Voldřic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hrada s nesponovými prvky I. II. a III. tří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sková náhrada – III. tří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ková náhrada – IV. tří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nímatelná náhrada kotvená pomocí implantát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Podle doby použí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zor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louhodobě provizor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vní s dobou životností max. 3 ro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4653000"/>
            <a:ext cx="2528640" cy="1908000"/>
          </a:xfrm>
          <a:prstGeom prst="rect">
            <a:avLst/>
          </a:prstGeom>
          <a:ln w="0">
            <a:noFill/>
          </a:ln>
        </p:spPr>
      </p:pic>
      <p:pic>
        <p:nvPicPr>
          <p:cNvPr id="72" name="Zástupný symbol pro obsah 3" descr="P1060089.JPG"/>
          <p:cNvPicPr/>
          <p:nvPr/>
        </p:nvPicPr>
        <p:blipFill>
          <a:blip r:embed="rId2"/>
          <a:stretch/>
        </p:blipFill>
        <p:spPr>
          <a:xfrm>
            <a:off x="3708360" y="3357720"/>
            <a:ext cx="2448000" cy="162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Chalupna\Desktop\Nová složka\100_0940.JPG"/>
          <p:cNvPicPr/>
          <p:nvPr/>
        </p:nvPicPr>
        <p:blipFill>
          <a:blip r:embed="rId3"/>
          <a:stretch/>
        </p:blipFill>
        <p:spPr>
          <a:xfrm>
            <a:off x="6300720" y="5084640"/>
            <a:ext cx="2232000" cy="1679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7280" y="36450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66760" y="4290840"/>
            <a:ext cx="7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5659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STÁLOVÁ, T.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ixní a snímatelná protetik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1. vyd. Praha: Grada, 2004. ISBN 80-247-0655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 obrázků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br. 1,2,3,4,5,6,8,9: Fotografie zhotovila, není-li uvedeno jinak, Mgr. Hana Chalupná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fotografiích jsou práce žáků SZŠ a VOŠZ Karlovy Var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. 7: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Zuby.cz [online].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©2007.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[cit. 4.10.2013].Dostupné z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www:&lt;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ozuby.cz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cz/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luzby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protetika/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nimatelne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-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ahrady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ybridni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-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nahrady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/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&gt; aut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uv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10:46:23Z</dcterms:created>
  <dc:creator>Hana Chalupná</dc:creator>
  <dc:description/>
  <dc:language>en-US</dc:language>
  <cp:lastModifiedBy>Chalupna</cp:lastModifiedBy>
  <dcterms:modified xsi:type="dcterms:W3CDTF">2013-11-23T16:28:16Z</dcterms:modified>
  <cp:revision>66</cp:revision>
  <dc:subject/>
  <dc:title>Snímek 1</dc:title>
</cp:coreProperties>
</file>